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8B4-8833-4F22-8258-EA16D8AF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7D6-C170-461E-B786-8EDF63C2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5D8-F157-4FA2-BF91-658F94AC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F37-4B7C-4D3F-B55C-F706F164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375-B4C1-47C8-B108-69291B1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D15-CC5F-4B10-AFA3-8CC6F755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99B-E91F-4E70-89AF-ED6BFEFC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054-2D4F-4237-817E-D0B1C87F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954-C79A-42F0-9A7E-78CC102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C57-5EEE-491E-B592-DD7FF66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98D-F00C-41BE-ADF1-CE98E1B7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B02-F664-43F0-8CD8-E488367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951-A5E5-42B7-BC74-978857A0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4267080"/>
          </a:xfrm>
          <a:prstGeom prst="rect">
            <a:avLst/>
          </a:prstGeom>
          <a:solidFill>
            <a:srgbClr val="d0cdd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 LESSON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N ESSA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10080" y="4419720"/>
            <a:ext cx="3353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0842" t="17668" r="21690" b="4638"/>
          <a:stretch/>
        </p:blipFill>
        <p:spPr>
          <a:xfrm>
            <a:off x="0" y="457200"/>
            <a:ext cx="91440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380880" cy="206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728" t="0" r="2728" b="0"/>
          <a:stretch/>
        </p:blipFill>
        <p:spPr>
          <a:xfrm>
            <a:off x="0" y="1066680"/>
            <a:ext cx="9144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8020" r="-2569" b="0"/>
          <a:stretch/>
        </p:blipFill>
        <p:spPr>
          <a:xfrm>
            <a:off x="0" y="1676520"/>
            <a:ext cx="91440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714" t="2641" r="1030" b="0"/>
          <a:stretch/>
        </p:blipFill>
        <p:spPr>
          <a:xfrm>
            <a:off x="0" y="1055520"/>
            <a:ext cx="9144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20:21:44Z</dcterms:created>
  <dc:creator>nbdoe</dc:creator>
  <dc:description/>
  <dc:language>en-US</dc:language>
  <cp:lastModifiedBy>nbdoe</cp:lastModifiedBy>
  <dcterms:modified xsi:type="dcterms:W3CDTF">2007-04-06T20:37:09Z</dcterms:modified>
  <cp:revision>2</cp:revision>
  <dc:subject/>
  <dc:title>MINI LESSON   WRITING AN ESSAY  PART 2</dc:title>
</cp:coreProperties>
</file>